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F73-AB4A-45FA-86A4-325755DD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BD6-5CDA-475A-8FBD-212BEF1C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16D-5B5D-4B39-84FC-565DC9B8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631-B650-43B4-AF69-47257891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09C-E0B9-47C7-8865-E509D2C8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40D-1A36-448E-B584-933291DB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EED-339E-4B55-8128-93ADF50C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492-4993-40A0-8138-3156E9F2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0DB-A1C6-4A10-844E-C80DF858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B45-D9FB-4FEB-B6F6-55A22789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CEC-DEC3-4286-B032-FCCC4555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4DD-32DB-4302-9DB7-2DD32EC8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B54-2F5F-4020-ABBE-CA312E91F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c_EdoFinancieroAcum31Dic04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1:09:26Z</dcterms:created>
  <dc:creator>GRUPO MEXITOS</dc:creator>
  <dc:description/>
  <dc:language>en-US</dc:language>
  <cp:lastModifiedBy>Instituto Electoral del Estad</cp:lastModifiedBy>
  <dcterms:modified xsi:type="dcterms:W3CDTF">2005-01-27T16:25:28Z</dcterms:modified>
  <cp:revision>16</cp:revision>
  <dc:subject/>
  <dc:title>Presentación de PowerPoint</dc:title>
</cp:coreProperties>
</file>